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AC37-12AA-49E1-A3A0-A41F0136EC56}"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8CFC-C4BC-486B-84B9-3C7A9D4B8EB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B8A8-1B3F-4434-819F-91A3F4494E3C}"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1481-F072-4E42-BBDE-7BD3144C5910}"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6628-7034-421C-A6EE-C3CBEFB821D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01CB-0ECC-4266-8B32-46F739DCB5F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4E4A-47FA-4897-84D6-0F76D2C7DA5E}"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919F-7F4A-4B07-85D0-ED3FDD183E2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9DCC-139A-4D29-B26D-B86682C28813}"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4F22-7A3E-4E6E-AF13-04C28F9ADE5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97640-E44A-4484-B359-8CDA27A54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A9EFB-0CE9-4BEB-9D3F-AD93B6D0D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0C78A-1B39-424D-B97E-55B2CEE56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A097D-F23E-4CA8-9614-86F16A4EC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CFCE5-8A6F-4C82-95AE-A0BBC00E3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18353-352D-4941-BB23-6AEAE751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E5AF-4090-4B82-8F07-9663957AF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EB82A-91B4-45CB-B3DE-77772F999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2A43-90DC-4A37-B46A-693D9D579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5AF3D-D862-4A32-B075-5E5F86543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7411-889F-4358-B89B-012AE892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6CA4B-49C0-4782-9F73-169FD3473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A2A5-26E5-4F5B-AB8B-23982D032C61}"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12:03Z</dcterms:modified>
  <cp:revision>22</cp:revision>
  <dc:subject/>
  <dc:title>PowerPoint Presentation</dc:title>
</cp:coreProperties>
</file>